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D6C-C384-4161-AB4D-926F48F2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024-757D-49A3-8A6D-8DD87527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289-56BD-4B7D-A199-D3E73BF9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A17-1760-4B60-86A1-8924E2AA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89B-83E1-43B9-8D48-1A8F8A5E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A05-12F7-4D44-B43B-AD58E3B6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B6C-4EC2-4BB0-A6A7-C7856A5E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93E-F2BA-4229-9C9F-67740AB0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CC0-C421-499D-A771-BF9BA3BE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DF3-0340-4359-ABD4-BD6E711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D84-A4ED-42E9-802E-D654A668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7D9-95E4-49D2-AC9A-C067EA1A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E0CE-8C89-4479-9730-38905E92D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" Target="slide5.xml"/><Relationship Id="rId9" Type="http://schemas.openxmlformats.org/officeDocument/2006/relationships/image" Target="../media/image6.png"/><Relationship Id="rId10" Type="http://schemas.openxmlformats.org/officeDocument/2006/relationships/hyperlink" Target="http://www.scootle.edu.au/ec/login.action" TargetMode="External"/><Relationship Id="rId11" Type="http://schemas.openxmlformats.org/officeDocument/2006/relationships/image" Target="../media/image7.png"/><Relationship Id="rId12" Type="http://schemas.openxmlformats.org/officeDocument/2006/relationships/hyperlink" Target="http://www.socrative.com/" TargetMode="External"/><Relationship Id="rId13" Type="http://schemas.openxmlformats.org/officeDocument/2006/relationships/image" Target="../media/image8.png"/><Relationship Id="rId14" Type="http://schemas.openxmlformats.org/officeDocument/2006/relationships/hyperlink" Target="http://www.flickr.com/creativecommons/" TargetMode="External"/><Relationship Id="rId15" Type="http://schemas.openxmlformats.org/officeDocument/2006/relationships/image" Target="../media/image9.png"/><Relationship Id="rId16" Type="http://schemas.openxmlformats.org/officeDocument/2006/relationships/hyperlink" Target="https://www.dropbox.com/home" TargetMode="External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image" Target="../media/image27.png"/><Relationship Id="rId4" Type="http://schemas.openxmlformats.org/officeDocument/2006/relationships/hyperlink" Target="http://novastartalk.nvcc.edu/2012/02/animoto-for-the-world-languages-classroom-2/" TargetMode="External"/><Relationship Id="rId5" Type="http://schemas.openxmlformats.org/officeDocument/2006/relationships/image" Target="../media/image28.png"/><Relationship Id="rId6" Type="http://schemas.openxmlformats.org/officeDocument/2006/relationships/hyperlink" Target="http://animoto.com/blog/using-animoto/create-voice-over-video/" TargetMode="External"/><Relationship Id="rId7" Type="http://schemas.openxmlformats.org/officeDocument/2006/relationships/hyperlink" Target="http://animoto.com/blog/using-animoto/create-voice-over-video/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0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tpack.org/" TargetMode="External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hippasus.com/rrpweblog/archives/2013/01/30/TechnologyInEducationFourKeyComponents.pdf" TargetMode="External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crative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" Target="slide1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hyperlink" Target="http://mfl-storybirds.wikispaces.com/German+Storybirds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mfl-storybirds.wikispaces.com/French+Storybirds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storybird.com/teachers/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nemotion.com/flash/sketch-paint/" TargetMode="External"/><Relationship Id="rId2" Type="http://schemas.openxmlformats.org/officeDocument/2006/relationships/image" Target="../media/image19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onemotion.com/flash/sketch-paint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hyperlink" Target="http://www.flickr.com/creativecommons/" TargetMode="External"/><Relationship Id="rId5" Type="http://schemas.openxmlformats.org/officeDocument/2006/relationships/image" Target="../media/image23.png"/><Relationship Id="rId6" Type="http://schemas.openxmlformats.org/officeDocument/2006/relationships/slide" Target="slide1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imoto.com/" TargetMode="External"/><Relationship Id="rId2" Type="http://schemas.openxmlformats.org/officeDocument/2006/relationships/hyperlink" Target="http://animoto.com/play/xDDPC9jVwApjS5qwFFFG5g" TargetMode="External"/><Relationship Id="rId3" Type="http://schemas.openxmlformats.org/officeDocument/2006/relationships/image" Target="../media/image24.png"/><Relationship Id="rId4" Type="http://schemas.openxmlformats.org/officeDocument/2006/relationships/slide" Target="slide1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nimoto.com/" TargetMode="External"/><Relationship Id="rId2" Type="http://schemas.openxmlformats.org/officeDocument/2006/relationships/hyperlink" Target="http://animoto.com/play/qehbsUqxsD2EewGPNy4VBw" TargetMode="External"/><Relationship Id="rId3" Type="http://schemas.openxmlformats.org/officeDocument/2006/relationships/image" Target="../media/image26.png"/><Relationship Id="rId4" Type="http://schemas.openxmlformats.org/officeDocument/2006/relationships/slide" Target="slide1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97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24000" y="1052640"/>
            <a:ext cx="6481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nguages in Pri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AU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87280" y="3933720"/>
            <a:ext cx="2376720" cy="1454400"/>
          </a:xfrm>
          <a:prstGeom prst="rect">
            <a:avLst/>
          </a:prstGeom>
          <a:ln w="38160">
            <a:solidFill>
              <a:srgbClr val="558ed5"/>
            </a:solidFill>
            <a:miter/>
          </a:ln>
        </p:spPr>
      </p:pic>
      <p:grpSp>
        <p:nvGrpSpPr>
          <p:cNvPr id="45" name="Group 10"/>
          <p:cNvGrpSpPr/>
          <p:nvPr/>
        </p:nvGrpSpPr>
        <p:grpSpPr>
          <a:xfrm>
            <a:off x="7332840" y="3606840"/>
            <a:ext cx="1272960" cy="2786040"/>
            <a:chOff x="7332840" y="3606840"/>
            <a:chExt cx="1272960" cy="2786040"/>
          </a:xfrm>
        </p:grpSpPr>
        <p:pic>
          <p:nvPicPr>
            <p:cNvPr id="46" name="Picture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332840" y="3606840"/>
              <a:ext cx="1262160" cy="26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"/>
            <p:cNvPicPr/>
            <p:nvPr/>
          </p:nvPicPr>
          <p:blipFill>
            <a:blip r:embed="rId6"/>
            <a:stretch/>
          </p:blipFill>
          <p:spPr>
            <a:xfrm>
              <a:off x="8255880" y="6297120"/>
              <a:ext cx="349920" cy="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9" descr=""/>
            <p:cNvPicPr/>
            <p:nvPr/>
          </p:nvPicPr>
          <p:blipFill>
            <a:blip r:embed="rId7"/>
            <a:stretch/>
          </p:blipFill>
          <p:spPr>
            <a:xfrm>
              <a:off x="8096760" y="6297120"/>
              <a:ext cx="160560" cy="9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10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027320" y="3892680"/>
            <a:ext cx="2448000" cy="153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819440" y="5089680"/>
            <a:ext cx="1719000" cy="107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187280" y="2565360"/>
            <a:ext cx="2087640" cy="117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284720" y="2808360"/>
            <a:ext cx="161604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781680" y="2354400"/>
            <a:ext cx="226080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2"/>
          <p:cNvSpPr/>
          <p:nvPr/>
        </p:nvSpPr>
        <p:spPr>
          <a:xfrm>
            <a:off x="3635280" y="1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im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>
            <a:hlinkClick r:id="rId1" action="ppaction://hlinksldjump"/>
          </p:cNvPr>
          <p:cNvPicPr/>
          <p:nvPr/>
        </p:nvPicPr>
        <p:blipFill>
          <a:blip r:embed="rId2"/>
          <a:srcRect l="16254" t="36374" r="18732" b="20058"/>
          <a:stretch/>
        </p:blipFill>
        <p:spPr>
          <a:xfrm>
            <a:off x="8244000" y="609300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2340000" y="1052640"/>
            <a:ext cx="4514760" cy="230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4005360"/>
            <a:ext cx="4032360" cy="191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Box 7">
            <a:hlinkClick r:id="rId6"/>
          </p:cNvPr>
          <p:cNvSpPr/>
          <p:nvPr/>
        </p:nvSpPr>
        <p:spPr>
          <a:xfrm>
            <a:off x="4788000" y="40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Adding voice to Anim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006720" cy="187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4103640" cy="2513160"/>
          </a:xfrm>
          <a:prstGeom prst="rect">
            <a:avLst/>
          </a:prstGeom>
          <a:ln w="38160">
            <a:solidFill>
              <a:srgbClr val="558ed5"/>
            </a:solidFill>
            <a:miter/>
          </a:ln>
        </p:spPr>
      </p:pic>
      <p:sp>
        <p:nvSpPr>
          <p:cNvPr id="113" name="TextBox 3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Users\Pauline\Desktop\tale.jpg"/>
          <p:cNvPicPr/>
          <p:nvPr/>
        </p:nvPicPr>
        <p:blipFill>
          <a:blip r:embed="rId3"/>
          <a:stretch/>
        </p:blipFill>
        <p:spPr>
          <a:xfrm>
            <a:off x="3292560" y="3213000"/>
            <a:ext cx="5851440" cy="2933640"/>
          </a:xfrm>
          <a:prstGeom prst="rect">
            <a:avLst/>
          </a:prstGeom>
          <a:ln w="0">
            <a:noFill/>
          </a:ln>
        </p:spPr>
      </p:pic>
      <p:sp>
        <p:nvSpPr>
          <p:cNvPr id="115" name="Oval 5"/>
          <p:cNvSpPr/>
          <p:nvPr/>
        </p:nvSpPr>
        <p:spPr>
          <a:xfrm>
            <a:off x="250920" y="2133720"/>
            <a:ext cx="1008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3276720" y="2565360"/>
            <a:ext cx="5745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979640" y="404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eb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4"/>
          <a:srcRect l="16254" t="36374" r="18732" b="20058"/>
          <a:stretch/>
        </p:blipFill>
        <p:spPr>
          <a:xfrm>
            <a:off x="8244000" y="6021360"/>
            <a:ext cx="576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span298.WAV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179280" y="476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serting Sound into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2"/>
          <a:srcRect l="24380" t="36374" r="18732" b="20058"/>
          <a:stretch/>
        </p:blipFill>
        <p:spPr>
          <a:xfrm>
            <a:off x="8459640" y="5516640"/>
            <a:ext cx="505080" cy="433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9"/>
          <p:cNvGrpSpPr/>
          <p:nvPr/>
        </p:nvGrpSpPr>
        <p:grpSpPr>
          <a:xfrm>
            <a:off x="3492360" y="476280"/>
            <a:ext cx="3773520" cy="5816520"/>
            <a:chOff x="3492360" y="476280"/>
            <a:chExt cx="3773520" cy="5816520"/>
          </a:xfrm>
        </p:grpSpPr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3492360" y="476280"/>
              <a:ext cx="3740760" cy="56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"/>
            <p:cNvPicPr/>
            <p:nvPr/>
          </p:nvPicPr>
          <p:blipFill>
            <a:blip r:embed="rId4"/>
            <a:stretch/>
          </p:blipFill>
          <p:spPr>
            <a:xfrm>
              <a:off x="6228000" y="6093000"/>
              <a:ext cx="103788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9" descr=""/>
            <p:cNvPicPr/>
            <p:nvPr/>
          </p:nvPicPr>
          <p:blipFill>
            <a:blip r:embed="rId5"/>
            <a:stretch/>
          </p:blipFill>
          <p:spPr>
            <a:xfrm>
              <a:off x="5756760" y="6093000"/>
              <a:ext cx="475920" cy="19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5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Pauline\Desktop\powerpoint sound.jpg"/>
          <p:cNvPicPr/>
          <p:nvPr/>
        </p:nvPicPr>
        <p:blipFill>
          <a:blip r:embed="rId1"/>
          <a:stretch/>
        </p:blipFill>
        <p:spPr>
          <a:xfrm>
            <a:off x="250920" y="1916280"/>
            <a:ext cx="8659800" cy="2447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1403280" y="549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serting Sound into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rcRect l="16254" t="36374" r="18732" b="20058"/>
          <a:stretch/>
        </p:blipFill>
        <p:spPr>
          <a:xfrm>
            <a:off x="8172360" y="5373720"/>
            <a:ext cx="5763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Pauline\Desktop\Package for CD.jpg"/>
          <p:cNvPicPr/>
          <p:nvPr/>
        </p:nvPicPr>
        <p:blipFill>
          <a:blip r:embed="rId1"/>
          <a:stretch/>
        </p:blipFill>
        <p:spPr>
          <a:xfrm>
            <a:off x="611280" y="907920"/>
            <a:ext cx="4905360" cy="418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Pauline\Desktop\CD.jpg"/>
          <p:cNvPicPr/>
          <p:nvPr/>
        </p:nvPicPr>
        <p:blipFill>
          <a:blip r:embed="rId2"/>
          <a:stretch/>
        </p:blipFill>
        <p:spPr>
          <a:xfrm>
            <a:off x="5148360" y="3716280"/>
            <a:ext cx="3552840" cy="24098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1908000" y="189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owerPoint Package for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3"/>
          <a:srcRect l="16254" t="36374" r="18732" b="20058"/>
          <a:stretch/>
        </p:blipFill>
        <p:spPr>
          <a:xfrm>
            <a:off x="8388360" y="6165720"/>
            <a:ext cx="5763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2556000" y="48096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serting sound - IW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rcRect l="16254" t="36374" r="18732" b="20058"/>
          <a:stretch/>
        </p:blipFill>
        <p:spPr>
          <a:xfrm>
            <a:off x="8244000" y="609300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050920" y="1268280"/>
            <a:ext cx="4095720" cy="3819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1258920" y="126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reetings – ticker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931280" y="126828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ndy – show me th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6024960" y="2852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MARTBoard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97776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2627280" y="20606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rryl Wahlin and Pauline Lew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ducation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l 12, 99 York Street, Sydney NSW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hone (02) 9299 2845  Web aisnsw.edu.au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ail ais@aisnsw.edu.au ABN 96 003 509 0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403280" y="616572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rcRect l="16254" t="36374" r="18732" b="20058"/>
          <a:stretch/>
        </p:blipFill>
        <p:spPr>
          <a:xfrm>
            <a:off x="8317080" y="6165720"/>
            <a:ext cx="576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708360" y="83664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tpack"/>
          <p:cNvPicPr/>
          <p:nvPr/>
        </p:nvPicPr>
        <p:blipFill>
          <a:blip r:embed="rId1"/>
          <a:stretch/>
        </p:blipFill>
        <p:spPr>
          <a:xfrm>
            <a:off x="2933640" y="1916280"/>
            <a:ext cx="3276720" cy="3295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2771640" y="54846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produced by permission of the publisher, © 2012 by tpack.org   accessed 12/03/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2200" y="163836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TPACK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>
            <a:hlinkClick r:id="rId3" action="ppaction://hlinksldjump"/>
          </p:cNvPr>
          <p:cNvPicPr/>
          <p:nvPr/>
        </p:nvPicPr>
        <p:blipFill>
          <a:blip r:embed="rId4"/>
          <a:srcRect l="16254" t="36374" r="18732" b="20058"/>
          <a:stretch/>
        </p:blipFill>
        <p:spPr>
          <a:xfrm>
            <a:off x="8317080" y="6165720"/>
            <a:ext cx="576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612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AM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414520" y="2050920"/>
            <a:ext cx="395280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763640" y="5516640"/>
            <a:ext cx="58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://www.hippasus.com/rrpweblog/archives/2013/01/30/TechnologyInEducationFourKeyComponents.pdf</a:t>
            </a:r>
            <a:r>
              <a:rPr b="0" lang="en-A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 accessed 12/03/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79160" y="10526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uben Puente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>
            <a:hlinkClick r:id="rId3" action="ppaction://hlinksldjump"/>
          </p:cNvPr>
          <p:cNvPicPr/>
          <p:nvPr/>
        </p:nvPicPr>
        <p:blipFill>
          <a:blip r:embed="rId4"/>
          <a:srcRect l="16254" t="36374" r="18732" b="20058"/>
          <a:stretch/>
        </p:blipFill>
        <p:spPr>
          <a:xfrm>
            <a:off x="8317080" y="6165720"/>
            <a:ext cx="576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628640"/>
            <a:ext cx="6069240" cy="4197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6372360" y="1665360"/>
            <a:ext cx="2646360" cy="3529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3492360" y="54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c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>
            <a:hlinkClick r:id="rId4" action="ppaction://hlinksldjump"/>
          </p:cNvPr>
          <p:cNvPicPr/>
          <p:nvPr/>
        </p:nvPicPr>
        <p:blipFill>
          <a:blip r:embed="rId5"/>
          <a:srcRect l="16254" t="36374" r="18732" b="20058"/>
          <a:stretch/>
        </p:blipFill>
        <p:spPr>
          <a:xfrm>
            <a:off x="8172360" y="5373720"/>
            <a:ext cx="576360" cy="431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938240" y="1039680"/>
            <a:ext cx="623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DO you use quizzes to pretest before starting a unit of work, cheking that you and /or your students are on track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could you use it for continuous assessment, for giving feedback to students and for yourself, how else could you use an online quizz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write your quiz questio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395280" y="6237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>
            <a:hlinkClick r:id="rId1" action="ppaction://hlinksldjump"/>
          </p:cNvPr>
          <p:cNvPicPr/>
          <p:nvPr/>
        </p:nvPicPr>
        <p:blipFill>
          <a:blip r:embed="rId2"/>
          <a:srcRect l="16254" t="36374" r="18732" b="20058"/>
          <a:stretch/>
        </p:blipFill>
        <p:spPr>
          <a:xfrm>
            <a:off x="8317080" y="5445000"/>
            <a:ext cx="576000" cy="43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2657520" cy="371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4"/>
          <a:stretch/>
        </p:blipFill>
        <p:spPr>
          <a:xfrm>
            <a:off x="4572000" y="1700280"/>
            <a:ext cx="354024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2852640"/>
            <a:ext cx="3214440" cy="201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2852640"/>
            <a:ext cx="3106800" cy="1944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3348000" y="549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tory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>
            <a:hlinkClick r:id="rId9"/>
          </p:cNvPr>
          <p:cNvSpPr/>
          <p:nvPr/>
        </p:nvSpPr>
        <p:spPr>
          <a:xfrm>
            <a:off x="971640" y="5300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orybird for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125360"/>
            <a:ext cx="4734000" cy="3457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>
            <a:hlinkClick r:id="rId3" action="ppaction://hlinksldjump"/>
          </p:cNvPr>
          <p:cNvPicPr/>
          <p:nvPr/>
        </p:nvPicPr>
        <p:blipFill>
          <a:blip r:embed="rId4"/>
          <a:srcRect l="16254" t="36374" r="18732" b="20058"/>
          <a:stretch/>
        </p:blipFill>
        <p:spPr>
          <a:xfrm>
            <a:off x="8172360" y="5373720"/>
            <a:ext cx="576360" cy="431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2195640" y="49338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onemotion.com/flash/sketch-paint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ickr Creative Comm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89000" y="1773360"/>
            <a:ext cx="1349280" cy="57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086280" y="1700280"/>
            <a:ext cx="1701720" cy="1326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000160" cy="4362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2448000" y="1228680"/>
            <a:ext cx="42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flickr.com/creativecommons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898560" y="2565360"/>
            <a:ext cx="4373640" cy="3371040"/>
            <a:chOff x="898560" y="2565360"/>
            <a:chExt cx="4373640" cy="3371040"/>
          </a:xfrm>
        </p:grpSpPr>
        <p:pic>
          <p:nvPicPr>
            <p:cNvPr id="92" name="Picture 6" descr=""/>
            <p:cNvPicPr/>
            <p:nvPr/>
          </p:nvPicPr>
          <p:blipFill>
            <a:blip r:embed="rId5"/>
            <a:stretch/>
          </p:blipFill>
          <p:spPr>
            <a:xfrm>
              <a:off x="898560" y="2565360"/>
              <a:ext cx="4373640" cy="33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2"/>
            <p:cNvSpPr/>
            <p:nvPr/>
          </p:nvSpPr>
          <p:spPr>
            <a:xfrm>
              <a:off x="1915560" y="5568120"/>
              <a:ext cx="26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</a:rPr>
                <a:t>Château Azay-le-Ride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>
            <a:hlinkClick r:id="rId6" action="ppaction://hlinksldjump"/>
          </p:cNvPr>
          <p:cNvPicPr/>
          <p:nvPr/>
        </p:nvPicPr>
        <p:blipFill>
          <a:blip r:embed="rId7"/>
          <a:srcRect l="16254" t="36374" r="18732" b="20058"/>
          <a:stretch/>
        </p:blipFill>
        <p:spPr>
          <a:xfrm>
            <a:off x="8317080" y="6165720"/>
            <a:ext cx="576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imo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124000" y="508464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nimoto.com/play/xDDPC9jVwApjS5qwFFFG5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1763640" y="1700280"/>
            <a:ext cx="6058080" cy="310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68436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5732640"/>
            <a:ext cx="57960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imo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557360"/>
            <a:ext cx="7318440" cy="3794040"/>
          </a:xfrm>
          <a:prstGeom prst="rect">
            <a:avLst/>
          </a:prstGeom>
          <a:ln w="34920">
            <a:solidFill>
              <a:srgbClr val="a6a6a6"/>
            </a:solidFill>
            <a:miter/>
          </a:ln>
        </p:spPr>
      </p:pic>
      <p:sp>
        <p:nvSpPr>
          <p:cNvPr id="103" name="TextBox 6"/>
          <p:cNvSpPr/>
          <p:nvPr/>
        </p:nvSpPr>
        <p:spPr>
          <a:xfrm>
            <a:off x="1116000" y="6308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© The Association of Independent Schools of NS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17080" y="5950080"/>
            <a:ext cx="57924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8:37:32Z</dcterms:created>
  <dc:creator>Pauline Lewis</dc:creator>
  <dc:description/>
  <dc:language>en-US</dc:language>
  <cp:lastModifiedBy>Pauline Lewis</cp:lastModifiedBy>
  <dcterms:modified xsi:type="dcterms:W3CDTF">2013-05-06T04:24:04Z</dcterms:modified>
  <cp:revision>101</cp:revision>
  <dc:subject/>
  <dc:title>Slide 1</dc:title>
</cp:coreProperties>
</file>